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AD2-5BC0-4CA0-AF5C-17AFF930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4D9-83D0-49A1-AC1D-D5E9AE9E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870-A5CF-4A9E-8C76-02E34235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569-C460-4868-8B5B-B1560508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FDC-A332-41D0-A357-A183816B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E12-5695-498C-9560-0A7A5BD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767-531D-4DEC-8438-223C6BD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1FB-78CD-4635-AC70-739D03A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825-700F-4388-A669-95CBB5A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F1F-0FA3-44E8-8644-5CF4B8E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F2B-59C1-4986-90E7-8A4177C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377-1F8F-4D2B-959B-AA45188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A5B-826A-43FD-B618-2ABAA0ADF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840" y="1009800"/>
            <a:ext cx="87350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Baskerville Old Face"/>
                <a:ea typeface="Arial"/>
              </a:rPr>
              <a:t>Припев:</a:t>
            </a:r>
            <a:r>
              <a:rPr b="1" lang="bg-BG" sz="4800" spc="-1" strike="noStrike">
                <a:solidFill>
                  <a:srgbClr val="3399ff"/>
                </a:solidFill>
                <a:latin typeface="Baskerville Old Face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О, Боже, Исус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Ти Си безгранично свя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със слава покрит 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обгърнат Си със сила, мощ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8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13240" y="1484280"/>
            <a:ext cx="758736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3399ff"/>
                </a:solidFill>
                <a:latin typeface="Arial"/>
                <a:ea typeface="Arial"/>
              </a:rPr>
              <a:t>/Обличаш дрехат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3399ff"/>
                </a:solidFill>
                <a:latin typeface="Arial"/>
                <a:ea typeface="Arial"/>
              </a:rPr>
              <a:t>на светлината,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3399ff"/>
                </a:solidFill>
                <a:latin typeface="Arial"/>
                <a:ea typeface="Arial"/>
              </a:rPr>
              <a:t>снишаваш се да търсиш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3399ff"/>
                </a:solidFill>
                <a:latin typeface="Arial"/>
                <a:ea typeface="Arial"/>
              </a:rPr>
              <a:t>в тъмнин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3399ff"/>
                </a:solidFill>
                <a:latin typeface="Arial"/>
                <a:ea typeface="Arial"/>
              </a:rPr>
              <a:t>народ почитащ Твойто име,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3399ff"/>
                </a:solidFill>
                <a:latin typeface="Arial"/>
                <a:ea typeface="Arial"/>
              </a:rPr>
              <a:t>Твойта чест. /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2840" y="1219320"/>
            <a:ext cx="87350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Baskerville Old Face"/>
              </a:rPr>
              <a:t>Припев:</a:t>
            </a:r>
            <a:r>
              <a:rPr b="0" lang="bg-BG" sz="4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О, Боже, Исус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Ти Си безгранично свя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със слава покрит 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обгърнат Си със сила, мощ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40" y="563400"/>
            <a:ext cx="911736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/От юг и север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изток и от зап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изпращаш Твойто сло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по земя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с Духа Си Свя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запалваш нашия живот.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1200" y="1287360"/>
            <a:ext cx="87350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Baskerville Old Face"/>
              </a:rPr>
              <a:t>Припев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О, Боже, Исус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Ти Си безгранично свя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със слава покрит 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99ff"/>
                </a:solidFill>
                <a:latin typeface="Arial"/>
                <a:ea typeface="Arial"/>
              </a:rPr>
              <a:t>обгърнат Си със сила, мощ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64080" y="1312920"/>
            <a:ext cx="720648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/И ето ме го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 </a:t>
            </a: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пред Теб, се мо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 </a:t>
            </a: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да изпълняв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 </a:t>
            </a: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Твойта вечна во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и думите ти истин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99ff"/>
                </a:solidFill>
                <a:latin typeface="Arial"/>
                <a:ea typeface="Arial"/>
              </a:rPr>
              <a:t>да изявя.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0:38:28Z</dcterms:created>
  <dc:creator>TrifonTrifonow</dc:creator>
  <dc:description/>
  <dc:language>en-US</dc:language>
  <cp:lastModifiedBy>TrifonTrifonow</cp:lastModifiedBy>
  <dcterms:modified xsi:type="dcterms:W3CDTF">2005-09-19T11:00:45Z</dcterms:modified>
  <cp:revision>6</cp:revision>
  <dc:subject/>
  <dc:title>Slide 1</dc:title>
</cp:coreProperties>
</file>